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-9489960" y="-6424560"/>
            <a:ext cx="18979920" cy="142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7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-9269280" y="-6257880"/>
            <a:ext cx="18540360" cy="139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-9269280" y="-6257880"/>
            <a:ext cx="18540360" cy="139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-9269280" y="-6257880"/>
            <a:ext cx="18540360" cy="139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9269280" y="-6257880"/>
            <a:ext cx="18540360" cy="139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229-54CF-472C-9606-432F129B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2BE-EA8B-47C6-8DC1-E036E37F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094-E751-46BF-9558-FB194764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D43-FE99-4921-8190-5F51B9AA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5093-EC8A-4B9F-85A6-7FD56F97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DB9-49E7-481E-A847-D012C04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0368-7220-471D-8E69-0284B3E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FE6-DD4D-4F69-8B1F-FE1AF1D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847E-28CC-441B-B0DE-2E0F207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-55440"/>
            <a:ext cx="85597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1CF7-F246-46B7-AA92-815A73E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E79-F23B-447B-AC59-640A048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01B-320F-4F2A-84B6-3E76B68F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5A6-AFEC-4E68-8B08-FA357D3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C29B-301D-41A7-8130-7264E28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9BF6-78BA-47F9-9855-F220450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32E7-DBA6-4530-B438-67E6E616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ACC-49CA-449A-92F2-3AA96084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AB9-2818-427C-A90A-D6DCDE9E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85A-0C12-4F67-84E5-994B59E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6C5-7608-42A0-A150-B2BE853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-55440"/>
            <a:ext cx="85597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112-DDA0-44C1-8D4C-C8BDE2A8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4BB-1D22-4F75-802E-1241941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442-0959-48AC-8D1D-FAE0C5D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DD3-1508-4B46-9343-3AF1D03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105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84C16A-51F7-4E5A-9417-255DEA73F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30040" y="0"/>
            <a:ext cx="7308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 rot="16200000">
            <a:off x="4526640" y="-3428280"/>
            <a:ext cx="71640" cy="9147240"/>
          </a:xfrm>
          <a:prstGeom prst="rect">
            <a:avLst/>
          </a:prstGeom>
          <a:solidFill>
            <a:srgbClr val="3333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1960" y="2130120"/>
            <a:ext cx="7764480" cy="14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5950080"/>
            <a:ext cx="2125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5950080"/>
            <a:ext cx="28879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5950080"/>
            <a:ext cx="2125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6D188-54BF-401B-BFA6-017945A0B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93760" y="0"/>
            <a:ext cx="7308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 rot="16200000">
            <a:off x="4526640" y="-3339360"/>
            <a:ext cx="71640" cy="9147240"/>
          </a:xfrm>
          <a:prstGeom prst="rect">
            <a:avLst/>
          </a:prstGeom>
          <a:solidFill>
            <a:srgbClr val="3333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105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8425080" cy="15397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333399"/>
                </a:solidFill>
                <a:latin typeface="Tahoma"/>
              </a:rPr>
              <a:t>Roteiro para virada de tur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ETEC_ZN / Campus Zona N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-11520"/>
            <a:ext cx="85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nalisar Jubila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54160" y="900000"/>
            <a:ext cx="8783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Analisar Matrículas em Aber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 planilha de alunos evadidos e fazer análise dos alunos que cursaram e dos que realmente evadi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zer evasão de todos e deixar o choro para os alu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619280" y="2879640"/>
            <a:ext cx="68403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Fazer Evas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zer evasão dos alunos em </a:t>
            </a:r>
            <a:r>
              <a:rPr b="1" i="1" lang="pt-BR" sz="2400" spc="-1" strike="noStrike">
                <a:solidFill>
                  <a:srgbClr val="000000"/>
                </a:solidFill>
                <a:latin typeface="Tahoma"/>
              </a:rPr>
              <a:t>abert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e acordo com a análise efetuada sobre a planilha de evad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0" algn="just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1079640" y="2448000"/>
            <a:ext cx="684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nalisar Reprovação por Fal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laborar e analisar planilha de reprovados por fa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rificar atestados nas pastas dos alu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zer o abono quando necessário e/ou possível (até 15 faltas): alterar fech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1477800" y="3284640"/>
            <a:ext cx="579780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nalisar Jubila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ontar planilha de jubilados com dados do Boleti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258920" y="2127240"/>
            <a:ext cx="6553080" cy="4730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194920" y="3429000"/>
            <a:ext cx="39160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it Disciplina=repro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m marcar o período e ano l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Gerar Tur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rificar alunos com turno diferente da turma: gera a turma, quando for colocar para dentro da turma, verifica os alunos com turno difer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5689800" cy="37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Configurar Tur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ar a sigla e o código para o padrão do CEFET-R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aaap.serie.curso.#turno (20071.1.4401.1M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588456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serir Alunos nas Tur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a cada turma (filtrar por curso) &gt; Alu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 algn="just">
              <a:lnSpc>
                <a:spcPct val="101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tirar o filtro do turno, Filtrar novamente e clicar em &gt;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erificar alunos sem turma: Relatório &gt; Listagem de alunos (export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2125800" y="2276640"/>
            <a:ext cx="5398560" cy="3946320"/>
            <a:chOff x="2125800" y="2276640"/>
            <a:chExt cx="5398560" cy="3946320"/>
          </a:xfrm>
        </p:grpSpPr>
        <p:pic>
          <p:nvPicPr>
            <p:cNvPr id="145" name="Picture 3" descr=""/>
            <p:cNvPicPr/>
            <p:nvPr/>
          </p:nvPicPr>
          <p:blipFill>
            <a:blip r:embed="rId2"/>
            <a:stretch/>
          </p:blipFill>
          <p:spPr>
            <a:xfrm>
              <a:off x="2125800" y="2276640"/>
              <a:ext cx="5387760" cy="39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4"/>
            <p:cNvSpPr/>
            <p:nvPr/>
          </p:nvSpPr>
          <p:spPr>
            <a:xfrm>
              <a:off x="6085440" y="3141360"/>
              <a:ext cx="215280" cy="21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4429800" y="4365360"/>
              <a:ext cx="215640" cy="21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6805800" y="3501720"/>
              <a:ext cx="718560" cy="21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240"/>
            <a:ext cx="856296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Verificar Dependê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rovados com dependência (reprovados em até 2 disciplinas): passa e cursa as disciplinas reprov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806436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3240"/>
            <a:ext cx="856296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Verificar Dependê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provados por nota no período (mais de 2 disciplinas): cursar apenas as disciplinas de repro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496360" cy="31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5676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333399"/>
                </a:solidFill>
                <a:latin typeface="Tahoma"/>
              </a:rPr>
              <a:t>SUMÁ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licar / Criar Matriz / 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figurar calend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ificar pendências de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er fechamento do perí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er reabertura de 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er renovação de 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alisar jubilamento / matrícula em ab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ar tur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240"/>
            <a:ext cx="856296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Verificar Dependê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provados na dependência: cursar as disciplinas de dependênc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105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er procedimento semelhante ao jubil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provados por falta: cursar todas as disciplin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105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ificar na planilha de Reprovados por fal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3240"/>
            <a:ext cx="856296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tricular nas Dependê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ós análise de qual turma cada aluno irá cursar a dependência, matricular nas disciplinas: Procedimentos &gt; Matrícula por componente curricular &gt;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eleciona a turma com o botão direito do mous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&gt; Matric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826632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-55440"/>
            <a:ext cx="85597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>
                <a:solidFill>
                  <a:srgbClr val="333399"/>
                </a:solidFill>
                <a:latin typeface="Tahoma"/>
              </a:rPr>
              <a:t>SUMÁ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gurar tur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serir alunos nas tur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r depend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tricular alunos nas depend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5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bservar se tudo está ok (verificar se há algum aluno em aber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41760"/>
            <a:ext cx="856152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plicar / Criar Matriz / Cur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4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rso nov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94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 curso habili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94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 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94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 componentes curricul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94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 matri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0" algn="ctr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Deverá ser feito pelo gestor do sistema para evitar inconsistência e incoerência nos código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4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rso já exist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94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licar matriz quando houver ingresso de aluno para cursar o 1º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Configurar Calendá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3628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dastar os calendários (semestral e anual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serir os cursos nos respectivos calendá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477800" y="2305080"/>
            <a:ext cx="680256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Verificar Pendências de Not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rificar se existem alunos sem nota ou reprovados com MF = 58 ou 59 (ligar para os professores – Caso não encontre o professor, colocar o diário no nosso nome.  Se professor não entregou diário -&gt; tomar pos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gt; Cadastro de diários; &gt;Nome do professor; &gt; Alterar para 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 o aluno reprovado alterar fecham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rificar pendências de not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rificar pendências de diários: &gt; Cadastro; &gt;Cadastro de diários; &gt;Lançamentos de diários: colocar notas em alunos s/ no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4899240" cy="2768760"/>
          </a:xfrm>
          <a:prstGeom prst="rect">
            <a:avLst/>
          </a:prstGeom>
          <a:ln w="0">
            <a:noFill/>
          </a:ln>
        </p:spPr>
      </p:pic>
      <p:sp>
        <p:nvSpPr>
          <p:cNvPr id="108" name="Oval 4"/>
          <p:cNvSpPr/>
          <p:nvPr/>
        </p:nvSpPr>
        <p:spPr>
          <a:xfrm>
            <a:off x="6948360" y="4797360"/>
            <a:ext cx="1082880" cy="360360"/>
          </a:xfrm>
          <a:prstGeom prst="ellipse">
            <a:avLst/>
          </a:prstGeom>
          <a:noFill/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356000" y="4797360"/>
            <a:ext cx="1332000" cy="360360"/>
          </a:xfrm>
          <a:prstGeom prst="ellipse">
            <a:avLst/>
          </a:prstGeom>
          <a:noFill/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324000" y="4238640"/>
            <a:ext cx="3456000" cy="2428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4500720" y="5300640"/>
            <a:ext cx="38876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gt;Relatór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gt;Boletim Esc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gt;Alunos com nota: igual a 58 / 5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gt;Alunos sem notas lanç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Fazer Fechamento do Perío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evitar congestionamento no sistema, é interessante fechar turma por tu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embrar cursos com mais de uma estrutura de curso: é necessário fazer o fechamento por estrutura 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1979640" y="3240000"/>
            <a:ext cx="619128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Fazer Reabertura de 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Verificar as matrículas que foram tranc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abrir todas as matrículas trancadas no semes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1262160" y="2340000"/>
            <a:ext cx="68389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20880"/>
            <a:ext cx="85676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Fazer Renovação de 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1000"/>
              </a:lnSpc>
              <a:spcBef>
                <a:spcPts val="799"/>
              </a:spcBef>
              <a:buClr>
                <a:srgbClr val="99cc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Ver solicitações dos alunos (feita na renovação de matrícula)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584889</cp:lastModifiedBy>
  <dcterms:modified xsi:type="dcterms:W3CDTF">2010-02-24T10:55:05Z</dcterms:modified>
  <cp:revision>8</cp:revision>
  <dc:subject/>
  <dc:title>Slide 1</dc:title>
</cp:coreProperties>
</file>